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32E-0FBA-46EE-93AA-0D7251E9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EBD-8D47-4A69-8100-BE5D0512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6A2-1390-4606-8D02-97695977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7C4-58BE-4576-8103-EF34B679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4EB6-FC50-43A0-B5B9-EF5B282D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80D-9FB1-4DFC-BED0-6185CEFE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925-F3CA-4D22-B826-B9D7978B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4A7-11C6-41B0-ACF1-2F365171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431-ED9E-440B-A182-49F8FA65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AD5-C954-4B75-A3E5-07C0AF5F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8A7-081B-4CBF-9C8E-7ECA41A2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F5D7-5209-409C-9302-FE4945C0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80C2-8435-4214-A5F8-35AAD647C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storyoftheancientworld.com/wp-content/uploads/2009/12/Athens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EECE’S ORI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4006800" cy="4019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Athe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09680"/>
            <a:ext cx="4495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OAN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3679920"/>
            <a:ext cx="5943600" cy="3178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1066680"/>
            <a:ext cx="2666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2193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523880"/>
            <a:ext cx="2209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te ~ Kn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981080"/>
            <a:ext cx="25146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 – 1400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51460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a system of writing, fine artwork, great sailors, traded with Mesopotamia, Egypt, and Phoenicia, master builders of palaces that were maze like with plumbing and decorated with colorful mu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CENAEAN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cena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mainland/ Mycen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0 – 1100 B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cities on top of hills, very similar to the Minoans – sailors, trade, palaces, and writing, conquered the Min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3131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RK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ders from northern Greece who came to middle and southern Gre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 – 80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came to a stop, written language disappeared, people lived in isolated villages, oral traditions kept Greek history alive, population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8290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E of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0ish – 500 B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llages grow and develop back into cities, trade comes back and increases, leaders emerge in each city, city-states {an independent, self governing city and the land around it} develop and begin to fight one and compete against one another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444816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RM-UP: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438280"/>
            <a:ext cx="3504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he four ages that made up the origins of Ancient Greece and one or two important facts about each age you na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762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1219320"/>
            <a:ext cx="81532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lands were stepping stones by which civilization spread from Egypt and Mesopotamia westward into Eur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noans had running water, fresco paintings, women were equal to men, they had writing and artists, made ornaments and figures out of ivory, bronze, gold, and sil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noans had colonies on the Aegean Islands, in Greece and in Asia Min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eks adopting the culture of the Minoans means that the Minoan culture was more advanced and better than that of the Gree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oans of Cr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609480"/>
            <a:ext cx="6172200" cy="601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609480"/>
            <a:ext cx="6019920" cy="601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228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INO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YCENA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838080"/>
            <a:ext cx="198144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rst 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amed after King Mi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ad minitar and bull fig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nown for pottery c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 C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eakened by fire, earthquakes, tidal w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inear A –                                                                 cannot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1143000"/>
            <a:ext cx="160020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On Greek ma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ad walls that were 40 ft. high and 20 ft. th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Known for bronze weap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Linear B – can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Tall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ell to outs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2057400"/>
            <a:ext cx="19047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for record kee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pa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into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farers - sai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19:09:07Z</dcterms:created>
  <dc:creator>gehadde</dc:creator>
  <dc:description/>
  <dc:language>en-US</dc:language>
  <cp:lastModifiedBy>gehadde</cp:lastModifiedBy>
  <dcterms:modified xsi:type="dcterms:W3CDTF">2012-04-25T13:09:58Z</dcterms:modified>
  <cp:revision>26</cp:revision>
  <dc:subject/>
  <dc:title>WARM-UP: #2</dc:title>
</cp:coreProperties>
</file>